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5A0-A79F-4B83-BD3A-BA96AA70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503-163B-4497-BC55-53416E2A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13E-E442-4368-8F98-1232181C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C4A-3B44-4E8D-AD9F-800BDE88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519-DE46-4CFF-B323-5E5D2FCE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30A-89E1-4343-8452-838F83E3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05F-2E3B-48D1-9446-D443815B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1D4-4B18-46AA-9519-84DC665B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DC0-07BC-46EE-8902-3CE597AC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825-B375-43F2-9D37-6240F509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063-96B1-43BC-A15F-6F18C0DA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C99-6715-4EC3-B6DB-D0549313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5963-5722-43DF-96AC-96979AD77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xt C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24480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to reading well is being able to understand what you r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is is easier said than d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ocabulary words can be confusing, odd, or unkn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is happens, it helps if you can at least understand the other words in the paragraph you are rea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ormation in the paragraph can be a clue to help you understand the words you don't know. This is call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c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c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words around the unknown word. It is also the information that makes up the rest of the paragrap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things to look for when usi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xt clu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ion marks - a comma or dash may show you something about the unknown words. They can also give a clue to the new word's defin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rge w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referee's decision—he yelled until his coach had to calm him d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7102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words, such as "or" and "that is," may give you a hint to a defin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staurant said that removing one's hat during the show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ga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o read the entire passage. An unknown word may make more sense after you read the entire paragraph or pa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ger Kerrington had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at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unger for knowledge. He was the library's best patron, checking out at least ten new books a week. Whether it was about history, art, literature, math, or science, Roger wanted to know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Dorado Legend Snared Sir Walter Rale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21:16:12Z</dcterms:created>
  <dc:creator>ASD</dc:creator>
  <dc:description/>
  <dc:language>en-US</dc:language>
  <cp:lastModifiedBy>Leif Erickson</cp:lastModifiedBy>
  <dcterms:modified xsi:type="dcterms:W3CDTF">2011-06-04T23:33:10Z</dcterms:modified>
  <cp:revision>3</cp:revision>
  <dc:subject/>
  <dc:title>Context Clues</dc:title>
</cp:coreProperties>
</file>